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314-0CB6-4CC0-BE5F-2D1FE8C8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32F-46A8-42ED-ABB4-6636B69A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D0C-332F-4596-9A4F-2725E583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3D7-C518-4CF3-BDA3-5BD42A4A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217-A68A-4480-8DA8-30EC33AB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7CC-1B0C-4E18-8965-7F23B17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BA9-FD9F-4758-B865-3B12F96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847-3958-4F94-BA24-3E02075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C7C-EB65-4989-B7D9-2A46C529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FC5-E660-4C84-B3A1-4163B569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ECE-ABB0-4BC2-91EF-51AFFDA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A03-3342-4DB2-9A29-645B744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0F3D-25E7-4F30-A128-A0146E4A4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и састављања правилног дневног об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3"/>
          <p:cNvSpPr/>
          <p:nvPr/>
        </p:nvSpPr>
        <p:spPr>
          <a:xfrm>
            <a:off x="785880" y="214200"/>
            <a:ext cx="724536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ЕТ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84720" y="501336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АТЕДРА ЗА ФИЗИОЛОГИЈУ И ДИЈЕТЕ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820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в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Израчунавањ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TEF (термички ефекат хране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E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термички ефекат хране) износи око 10% енергетске вредности хране, односно за 10% треба увећати потребну енергетску вредност 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множити са 1.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р: за задовољавање дневних енергетских потреба од 2000kcal треба унети 2200kcal да би нето ефекат био 2000k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о сада применимо форму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P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R + EFA + TE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добија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920 + 900)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.1 = 310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но дневне енергетске потребе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зносе о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kca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285840" y="524196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398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ма препорученим стандард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DA, Recommended Dietary Allowance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пот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на за дневну потрошњу треба да буде обезбеђена из хранљивих материја у следећем одно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0-55% дневног енергетског уноса из угљених хи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-30% дневног енергетског уноса из 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о 20% дневног енергетског уноса из проте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 особа потребе за беланчевинама изно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8 g/kg TM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потребе за беланчевинама изно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g/kg TM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46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аза</a:t>
            </a: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Одређивање потребних количина појединих врста хранљивих материја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епоручује се унос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ротеин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ињ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новре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летни 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Липид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љног поре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невни унос ма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 да омогућ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балансирани однос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 доминант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шћем незасићених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 потребан ун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сенцијалних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 могућст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Холестерол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00 mg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 g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ијетних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им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172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9160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угљених хидрата треба обезбедити 55% потребне енергије, што на 3100kcal износи 1705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 1g угљених хидрата обезбеђује 4kcal, потребно је унети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26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угљених хидр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масти треба обезбедити 25% потребне енергије, што на 3100kcal износи 775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 1g масти обезбеђује 9kcal, потребно је унети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6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м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протеина треба обезбедити 20% потребне енергије, што на 3100kcal износи 620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 1g протеина обезбеђује 4kcal, потребно је унети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5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Фаза 3 – Одређивање састава дневног об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рачунате потребне вредности хранљивих материја се распоређују у жељени број оброка), водећи рачуна о њихом садржају у појединим врстама намир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ебно треба проверити колико изабране намирнице задовољавају потребе за дневним уносом витамина и минерала и направити (евентуалне) корекције њиховог ун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еба проверити и квалитет изабраних намирница у смислу количина есенцијалних аминокиселина и есенцијалних масти, односа засићених и незасићених масних киселина, врсте угљених хидрата, количине дијететских влакана и холестерол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179280" y="285840"/>
            <a:ext cx="417852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CirilicaTimes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ање дневног оброка је значајно олакшан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м седам основних група намирн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и житар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 око 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 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од меса и ј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4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умер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у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умер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iramidaishrane"/>
          <p:cNvPicPr/>
          <p:nvPr/>
        </p:nvPicPr>
        <p:blipFill>
          <a:blip r:embed="rId1"/>
          <a:stretch/>
        </p:blipFill>
        <p:spPr>
          <a:xfrm>
            <a:off x="4429080" y="642960"/>
            <a:ext cx="4535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убитак телесне масе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ликом мршављења не сме бити изнад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583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ељ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.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6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е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anoreksija_inline"/>
          <p:cNvPicPr/>
          <p:nvPr/>
        </p:nvPicPr>
        <p:blipFill>
          <a:blip r:embed="rId1"/>
          <a:stretch/>
        </p:blipFill>
        <p:spPr>
          <a:xfrm>
            <a:off x="5965920" y="2133720"/>
            <a:ext cx="2679480" cy="40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3360"/>
            <a:ext cx="3119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 које желе да смање телесну масу ће испланирати дневни енергетски унос који ће бити мањи од енергетске потрошњ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50920" y="33336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ЛАНИРАЊЕ И САСТАВЉАЊЕ ХРАНЉИВОГ ДНЕВНОГ ОБ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50920" y="1341360"/>
            <a:ext cx="866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иљ планирања дневног оброка је да се ускла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и енергетски унос са очекиваним дневним енергетским потребама. Планирање дневног оброка представља и могућност за корекцију стања ухрање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29040" y="3000240"/>
            <a:ext cx="4500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33256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 које желе да повећају телесну масу ће испланирати дневни енергетски унос који ће бити већи од реалних енергетских потреба</a:t>
            </a:r>
            <a:br>
              <a:rPr sz="2400"/>
            </a:br>
            <a:r>
              <a:rPr b="1" lang="sr-Latn-C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4572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 оба случаја се препоручује да разлике између енергетског уноса и потрошње не буду велик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–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рекцију стања ухрањености остваривати постепено и без угрожавања здрављ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143240" y="785880"/>
            <a:ext cx="4286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нутног стања ухрање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ости особе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а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алног стања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акт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ст или фаза бол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фичних потр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есија, спортисти, рекреатив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ућег неподношења појединих врста или облика хранљивих матер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олеранција х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а који постоје у окруж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ног и стамбеног амбиј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кроклиматски усл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штвено социјалног амбиј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вике везане за исхр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ич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јалних могућ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" y="228600"/>
            <a:ext cx="83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irilicaTimes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састављања дневног обро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имати у виду различите подат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материјални и енергетски губитак у ток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а зависи 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8567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ви корак у планирању дневног оброка ј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финисање очекиваних енергетских потр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етски састав хране треба да одговара потребама организма за енерг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400"/>
            </a:br>
            <a:br>
              <a:rPr sz="1200"/>
            </a:b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е енергетске потре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 израчунавају сабирањем 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залног метабол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BM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MR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киване енергетске потро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ребне за обавља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ираних физичких активности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је која одговара вредности термичког ефекта хране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D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од које ће бити састављен дневни об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200"/>
            </a:br>
            <a:br>
              <a:rPr sz="12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ећи корак представља избор хранљивих матер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је треба да омогуће одговарајући енергетски у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дневном оброку треба да су заступљ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30974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гљени хид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анче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ам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ер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го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643200" y="2214720"/>
            <a:ext cx="471492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188640"/>
            <a:ext cx="885672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</a:t>
            </a:r>
            <a:r>
              <a:rPr b="1" lang="sr-Latn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АСТАВЉАЊА</a:t>
            </a:r>
            <a:r>
              <a:rPr b="1" lang="sr-Latn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НЕВНОГ</a:t>
            </a:r>
            <a:r>
              <a:rPr b="1" lang="sr-Latn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ОКА</a:t>
            </a:r>
            <a:br>
              <a:rPr sz="2900"/>
            </a:br>
            <a:br>
              <a:rPr sz="1400"/>
            </a:b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аз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1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дређивањ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енергетских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треба</a:t>
            </a:r>
            <a:br>
              <a:rPr sz="24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е енергетске 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P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 израчунавају по следећ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br>
              <a:rPr sz="1000"/>
            </a:br>
            <a:r>
              <a:rPr b="1" lang="sr-C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P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 + EF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ја за физичку 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ички ефекат х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 = k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M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4</a:t>
            </a:r>
            <a:br>
              <a:rPr sz="2400"/>
            </a:b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коефиције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а вред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ушкар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9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жене)</a:t>
            </a:r>
            <a:br>
              <a:rPr sz="2400"/>
            </a:br>
            <a:br>
              <a:rPr sz="10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ушкарца телесне ма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80kg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 = 1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80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4 = 1920 kcal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</a:t>
            </a:r>
            <a:br>
              <a:rPr sz="2400"/>
            </a:br>
            <a:br>
              <a:rPr sz="10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ед ове једноставне 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израчуна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се 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ецизнија мето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рачуна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ја узима у обзир не само п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елесну ма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T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зр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итан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838080"/>
          <a:ext cx="8533800" cy="5410080"/>
        </p:xfrm>
        <a:graphic>
          <a:graphicData uri="http://schemas.openxmlformats.org/drawingml/2006/table">
            <a:tbl>
              <a:tblPr/>
              <a:tblGrid>
                <a:gridCol w="1026720"/>
                <a:gridCol w="2047680"/>
                <a:gridCol w="5459400"/>
              </a:tblGrid>
              <a:tr h="64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Једначине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рачунавање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ост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ине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Једначина за израчунавање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М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cal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/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н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0.9 x TM) –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2.7 x TM) +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7.5 x TM) +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5.3 x TM) + 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1.6 x TM) +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3.5 x TM) + 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1.0 x TM) – 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2.5 x TM) + 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2.2 x TM) + 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4.7 x TM) + 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.7 x TM) + 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5 x TM) + 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 б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зрачунавањ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A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ја за физичку активнос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FA (енергија за физичку активност) се израчунава множењем енергетске потрошње за одговарајућу врсту физичке активности (према тежини) са очекиваним временом трајање дате активности (табе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ког рада (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0kcal) +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мереног рада (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kcal)= 600+300 = 900k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42920" y="1628640"/>
          <a:ext cx="6956640" cy="44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695664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08:06Z</dcterms:created>
  <dc:creator>User</dc:creator>
  <dc:description/>
  <dc:language>en-US</dc:language>
  <cp:lastModifiedBy>XP</cp:lastModifiedBy>
  <dcterms:modified xsi:type="dcterms:W3CDTF">2014-02-07T09:08:15Z</dcterms:modified>
  <cp:revision>61</cp:revision>
  <dc:subject/>
  <dc:title>Slide 1</dc:title>
</cp:coreProperties>
</file>