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187-359D-4F24-A3E5-1DF9E4A1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A51-F6C8-44EB-896E-BBFB009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433-4B14-450E-93EA-0FB5B680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75E-C31D-478F-988C-F34D869A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D451-F2A0-4141-842B-07091FF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D96-7907-40CF-ACBE-B8830CB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CCBC-0560-4CA1-8AEE-76B69D1E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FEA1-0AD8-49E1-A008-70AA4BF5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FAE-A1F0-4750-8CB0-4B9D7BED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8C64-13B9-4ABC-8151-DF1A4172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B4B4-D800-4AE8-A0C1-515E7EA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91-F491-4AA2-8CE0-9649AB0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BE97-B05F-45DD-AEB3-5B8BC0A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0CB-6714-4623-A44B-D103360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C8F-B391-4F83-BA30-D3B24B8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9EFE-CA3A-459D-9447-A395FD0F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88E-C677-4ABD-8AEB-44353393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EC2D-4E06-406F-975A-D9DB3988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5A7C-5DE6-4BB1-9120-0B071E1A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E40A-C239-4A95-AA39-3F53847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891E-9D70-4007-8036-AB62C69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D29B-F03A-4FCB-9E96-65B5EBC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7A0-FFAE-405D-A0F3-EE690D51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1BEA-2611-4D69-87D2-14643932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0880-8202-4F7F-A094-450BC06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5B46-53B8-407F-A733-D80BCC2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FE86-DA4F-4344-AFEE-EFE1E4E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6990-A719-475A-92EC-9C83EC3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3C78-FDEB-4D04-AECD-04D55DF9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E766-E067-49D4-88C3-30444A54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920-ACE5-4E13-824B-225817CD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F66-A43B-4AEB-8DA8-F0C72A4B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12D-12DB-4B0D-AD98-386E6C0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C8-6524-4B8A-9321-80FA4761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44B-6658-4F11-86B2-0BA6C44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7BF-141E-4CFE-90A6-98CA70C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0E7-6375-4744-B030-451BA7772B0B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101-E76E-4C2F-B798-DE4ADDA099AA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0FF-AC97-4A6C-80CD-2EC2B5294489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Arial"/>
              </a:rPr>
              <a:t>ЕНЕРГЕТСКИ</a:t>
            </a: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Arial"/>
              </a:rPr>
              <a:t>МЕТАБОЛИЗ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81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Повратни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сигнали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масног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регулишу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уношење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500" spc="-1" strike="noStrike" u="sng">
                <a:solidFill>
                  <a:srgbClr val="003366"/>
                </a:solidFill>
                <a:uFillTx/>
                <a:latin typeface="Arial"/>
              </a:rPr>
              <a:t>Лепти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дипепти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дипоци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лаз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ематоенцефал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аријер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зу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цептор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поталамички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једрим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ркуат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равентрикулар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зроку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е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дукац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тимулатор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пети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уропепти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Y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родукц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упстанц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у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уношењ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ртикотропи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лобађајућ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хормон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већа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импатичк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ерв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ен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крециј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сул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ет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анкреаса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већин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гојаз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забележе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мање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екрециј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лепти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поремећај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нивоу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рецептора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интрацелулар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сигналних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500" spc="-1" strike="noStrike">
                <a:solidFill>
                  <a:srgbClr val="003366"/>
                </a:solidFill>
                <a:latin typeface="Arial"/>
              </a:rPr>
              <a:t>механизама</a:t>
            </a:r>
            <a:r>
              <a:rPr b="0" lang="sr-Latn-CS" sz="1500" spc="-1" strike="noStrike">
                <a:solidFill>
                  <a:srgbClr val="003366"/>
                </a:solidFill>
                <a:latin typeface="Arial"/>
              </a:rPr>
              <a:t>!?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Group 36"/>
          <p:cNvGrpSpPr/>
          <p:nvPr/>
        </p:nvGrpSpPr>
        <p:grpSpPr>
          <a:xfrm>
            <a:off x="4427640" y="2421000"/>
            <a:ext cx="4716000" cy="3965400"/>
            <a:chOff x="4427640" y="2421000"/>
            <a:chExt cx="4716000" cy="3965400"/>
          </a:xfrm>
        </p:grpSpPr>
        <p:sp>
          <p:nvSpPr>
            <p:cNvPr id="186" name="AutoShape 37"/>
            <p:cNvSpPr/>
            <p:nvPr/>
          </p:nvSpPr>
          <p:spPr>
            <a:xfrm>
              <a:off x="5032800" y="2421000"/>
              <a:ext cx="4110840" cy="39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Rectangle 38"/>
            <p:cNvSpPr/>
            <p:nvPr/>
          </p:nvSpPr>
          <p:spPr>
            <a:xfrm>
              <a:off x="7608240" y="3837240"/>
              <a:ext cx="109656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7827840" y="4970160"/>
              <a:ext cx="767520" cy="99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0"/>
            <p:cNvSpPr/>
            <p:nvPr/>
          </p:nvSpPr>
          <p:spPr>
            <a:xfrm>
              <a:off x="6072840" y="5111640"/>
              <a:ext cx="987120" cy="7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4427640" y="5111640"/>
              <a:ext cx="109656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Text Box 42"/>
            <p:cNvSpPr/>
            <p:nvPr/>
          </p:nvSpPr>
          <p:spPr>
            <a:xfrm>
              <a:off x="7608240" y="2987280"/>
              <a:ext cx="87732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Kora velikog mozga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7718040" y="3978720"/>
              <a:ext cx="8773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Hipotalamus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7937280" y="5253480"/>
              <a:ext cx="54828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Unos hran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Text Box 45"/>
            <p:cNvSpPr/>
            <p:nvPr/>
          </p:nvSpPr>
          <p:spPr>
            <a:xfrm>
              <a:off x="6182280" y="5253480"/>
              <a:ext cx="76752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Digestivni trak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Text Box 46"/>
            <p:cNvSpPr/>
            <p:nvPr/>
          </p:nvSpPr>
          <p:spPr>
            <a:xfrm>
              <a:off x="4427640" y="5253480"/>
              <a:ext cx="9871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Masno tkivo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Line 47"/>
            <p:cNvSpPr/>
            <p:nvPr/>
          </p:nvSpPr>
          <p:spPr>
            <a:xfrm flipV="1">
              <a:off x="4975920" y="3978360"/>
              <a:ext cx="0" cy="11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Line 48"/>
            <p:cNvSpPr/>
            <p:nvPr/>
          </p:nvSpPr>
          <p:spPr>
            <a:xfrm>
              <a:off x="4975920" y="3978720"/>
              <a:ext cx="26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Line 49"/>
            <p:cNvSpPr/>
            <p:nvPr/>
          </p:nvSpPr>
          <p:spPr>
            <a:xfrm flipH="1">
              <a:off x="5523840" y="539496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Line 50"/>
            <p:cNvSpPr/>
            <p:nvPr/>
          </p:nvSpPr>
          <p:spPr>
            <a:xfrm flipH="1">
              <a:off x="7059960" y="5394960"/>
              <a:ext cx="76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Line 51"/>
            <p:cNvSpPr/>
            <p:nvPr/>
          </p:nvSpPr>
          <p:spPr>
            <a:xfrm>
              <a:off x="8047080" y="3553920"/>
              <a:ext cx="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Line 52"/>
            <p:cNvSpPr/>
            <p:nvPr/>
          </p:nvSpPr>
          <p:spPr>
            <a:xfrm>
              <a:off x="8156880" y="426204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Line 53"/>
            <p:cNvSpPr/>
            <p:nvPr/>
          </p:nvSpPr>
          <p:spPr>
            <a:xfrm flipV="1">
              <a:off x="5743800" y="4120200"/>
              <a:ext cx="0" cy="12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 flipV="1">
              <a:off x="6511680" y="4262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5743800" y="4120200"/>
              <a:ext cx="186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Line 56"/>
            <p:cNvSpPr/>
            <p:nvPr/>
          </p:nvSpPr>
          <p:spPr>
            <a:xfrm>
              <a:off x="6511680" y="4262040"/>
              <a:ext cx="1096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Text Box 57"/>
            <p:cNvSpPr/>
            <p:nvPr/>
          </p:nvSpPr>
          <p:spPr>
            <a:xfrm>
              <a:off x="7059960" y="5961600"/>
              <a:ext cx="8773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neta 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58"/>
            <p:cNvSpPr/>
            <p:nvPr/>
          </p:nvSpPr>
          <p:spPr>
            <a:xfrm>
              <a:off x="5524200" y="5961600"/>
              <a:ext cx="9871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Apsorbov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59"/>
            <p:cNvSpPr/>
            <p:nvPr/>
          </p:nvSpPr>
          <p:spPr>
            <a:xfrm>
              <a:off x="4975920" y="4545360"/>
              <a:ext cx="54828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Lept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Text Box 60"/>
            <p:cNvSpPr/>
            <p:nvPr/>
          </p:nvSpPr>
          <p:spPr>
            <a:xfrm>
              <a:off x="5743800" y="4545360"/>
              <a:ext cx="65808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r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insul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61"/>
            <p:cNvSpPr/>
            <p:nvPr/>
          </p:nvSpPr>
          <p:spPr>
            <a:xfrm>
              <a:off x="6621120" y="4545360"/>
              <a:ext cx="9871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ormon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Nervni signal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62"/>
            <p:cNvSpPr/>
            <p:nvPr/>
          </p:nvSpPr>
          <p:spPr>
            <a:xfrm>
              <a:off x="6730920" y="2845800"/>
              <a:ext cx="76752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ku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Miris, Vi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mocij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63"/>
            <p:cNvSpPr/>
            <p:nvPr/>
          </p:nvSpPr>
          <p:spPr>
            <a:xfrm>
              <a:off x="5085720" y="4120200"/>
              <a:ext cx="32904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-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64"/>
            <p:cNvSpPr/>
            <p:nvPr/>
          </p:nvSpPr>
          <p:spPr>
            <a:xfrm>
              <a:off x="5634000" y="5536440"/>
              <a:ext cx="32904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+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раткотрајн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лиментар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посред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гн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гестив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тегнуто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ут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уж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вак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умор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лецистокини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сули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укаго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60640" y="2362320"/>
            <a:ext cx="4383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3772080" y="2421000"/>
            <a:ext cx="5371920" cy="3965400"/>
            <a:chOff x="3772080" y="2421000"/>
            <a:chExt cx="5371920" cy="3965400"/>
          </a:xfrm>
        </p:grpSpPr>
        <p:sp>
          <p:nvSpPr>
            <p:cNvPr id="218" name="AutoShape 7"/>
            <p:cNvSpPr/>
            <p:nvPr/>
          </p:nvSpPr>
          <p:spPr>
            <a:xfrm>
              <a:off x="3772080" y="2421000"/>
              <a:ext cx="5371920" cy="39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543800" y="3837240"/>
              <a:ext cx="114300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7772400" y="4970160"/>
              <a:ext cx="799920" cy="99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5943600" y="5111640"/>
              <a:ext cx="1028520" cy="7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4229280" y="5111640"/>
              <a:ext cx="114300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7543800" y="2987280"/>
              <a:ext cx="91440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Kora velikog mozga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Text Box 13"/>
            <p:cNvSpPr/>
            <p:nvPr/>
          </p:nvSpPr>
          <p:spPr>
            <a:xfrm>
              <a:off x="7658280" y="3978720"/>
              <a:ext cx="91440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Hipotalamus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Text Box 14"/>
            <p:cNvSpPr/>
            <p:nvPr/>
          </p:nvSpPr>
          <p:spPr>
            <a:xfrm>
              <a:off x="7886880" y="5253480"/>
              <a:ext cx="57132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Unos hran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6058080" y="5253480"/>
              <a:ext cx="79992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Digestivni trak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Text Box 16"/>
            <p:cNvSpPr/>
            <p:nvPr/>
          </p:nvSpPr>
          <p:spPr>
            <a:xfrm>
              <a:off x="4229280" y="525348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Masno tkivo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 flipV="1">
              <a:off x="4800600" y="3978360"/>
              <a:ext cx="0" cy="11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4800600" y="39787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5371920" y="53949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 flipH="1">
              <a:off x="6972480" y="53949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>
              <a:off x="8001000" y="3553920"/>
              <a:ext cx="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>
              <a:off x="8115480" y="426204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5600880" y="4120200"/>
              <a:ext cx="0" cy="12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Line 24"/>
            <p:cNvSpPr/>
            <p:nvPr/>
          </p:nvSpPr>
          <p:spPr>
            <a:xfrm flipV="1">
              <a:off x="6400800" y="4262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5600880" y="41202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6400800" y="426204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Text Box 27"/>
            <p:cNvSpPr/>
            <p:nvPr/>
          </p:nvSpPr>
          <p:spPr>
            <a:xfrm>
              <a:off x="6972480" y="5961600"/>
              <a:ext cx="91440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neta 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Text Box 28"/>
            <p:cNvSpPr/>
            <p:nvPr/>
          </p:nvSpPr>
          <p:spPr>
            <a:xfrm>
              <a:off x="5372280" y="596160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Apsorbov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Text Box 29"/>
            <p:cNvSpPr/>
            <p:nvPr/>
          </p:nvSpPr>
          <p:spPr>
            <a:xfrm>
              <a:off x="4800600" y="4545360"/>
              <a:ext cx="5713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Llept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Text Box 30"/>
            <p:cNvSpPr/>
            <p:nvPr/>
          </p:nvSpPr>
          <p:spPr>
            <a:xfrm>
              <a:off x="5600880" y="4545360"/>
              <a:ext cx="68580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r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insul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6515280" y="454536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ormon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Nervni signal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Text Box 32"/>
            <p:cNvSpPr/>
            <p:nvPr/>
          </p:nvSpPr>
          <p:spPr>
            <a:xfrm>
              <a:off x="6629400" y="2845800"/>
              <a:ext cx="79992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ku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Miris, Vi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mocij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Text Box 33"/>
            <p:cNvSpPr/>
            <p:nvPr/>
          </p:nvSpPr>
          <p:spPr>
            <a:xfrm>
              <a:off x="4915080" y="4120200"/>
              <a:ext cx="3427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-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5486400" y="5536440"/>
              <a:ext cx="3427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+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прат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гзоге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доге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пстве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ор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ма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и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нут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ладишти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нут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о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таболизмо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ладиш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с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"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аген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нут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"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749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ск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аген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П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1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~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 1200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калор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ТП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еатин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ат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l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~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 1300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калор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, 3-8x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већ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резерв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P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  <a:ea typeface="Arial"/>
              </a:rPr>
              <a:t>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икоген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6" descr="Slika 67-1"/>
          <p:cNvPicPr/>
          <p:nvPr/>
        </p:nvPicPr>
        <p:blipFill>
          <a:blip r:embed="rId1"/>
          <a:stretch/>
        </p:blipFill>
        <p:spPr>
          <a:xfrm>
            <a:off x="6443640" y="2317680"/>
            <a:ext cx="2700360" cy="204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Form "/>
          <p:cNvPicPr/>
          <p:nvPr/>
        </p:nvPicPr>
        <p:blipFill>
          <a:blip r:embed="rId2"/>
          <a:stretch/>
        </p:blipFill>
        <p:spPr>
          <a:xfrm>
            <a:off x="6659640" y="4941720"/>
            <a:ext cx="2484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дб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ту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уколико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постоје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о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уко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грађу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уколико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не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постоје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о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уко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ладиш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ликогене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ти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твар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ново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укоз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ликогеноли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грађу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олиз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ш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адреналин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лукагон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активациј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i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фосфорилаз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Picture 4" descr="Slika 67-3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слобађањ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глуко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Гликолиз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узет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4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ст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– 2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еку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екул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фицијен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илизац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3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топлаз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н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ирогрожђа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ирув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7" name="Picture 4" descr="Slika 67-4"/>
          <p:cNvPicPr/>
          <p:nvPr/>
        </p:nvPicPr>
        <p:blipFill>
          <a:blip r:embed="rId1"/>
          <a:stretch/>
        </p:blipFill>
        <p:spPr>
          <a:xfrm>
            <a:off x="4648320" y="23623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слобађањ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глуко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ребсов</a:t>
            </a:r>
            <a:r>
              <a:rPr b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циклу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1 mol ATP/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ств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ректа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– 2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еку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ATP-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екул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H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то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тохондрија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н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– CO</a:t>
            </a:r>
            <a:r>
              <a:rPr b="0" lang="sr-Latn-C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0" name="Picture 4" descr="Slika 67-5"/>
          <p:cNvPicPr/>
          <p:nvPr/>
        </p:nvPicPr>
        <p:blipFill>
          <a:blip r:embed="rId1"/>
          <a:stretch/>
        </p:blipFill>
        <p:spPr>
          <a:xfrm>
            <a:off x="5638680" y="990720"/>
            <a:ext cx="3503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слобађањ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глукоз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ентозо</a:t>
            </a:r>
            <a:r>
              <a:rPr b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-</a:t>
            </a: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осфатни</a:t>
            </a:r>
            <a:r>
              <a:rPr b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у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тернатив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а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зимс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омал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ебсов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клу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3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грађу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т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лобође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оник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у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NADPH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верзи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ће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н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дук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– CO</a:t>
            </a:r>
            <a:r>
              <a:rPr b="0" lang="sr-Latn-C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Picture 4" descr="Slika 67-7"/>
          <p:cNvPicPr/>
          <p:nvPr/>
        </p:nvPicPr>
        <p:blipFill>
          <a:blip r:embed="rId1"/>
          <a:stretch/>
        </p:blipFill>
        <p:spPr>
          <a:xfrm>
            <a:off x="4800600" y="2362320"/>
            <a:ext cx="4111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7720" y="2246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ормира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ATP-a </a:t>
            </a: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ксидативном</a:t>
            </a:r>
            <a:r>
              <a:rPr b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осфорилациј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итохондрија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нутрашњ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ембра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90% ATP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разградњо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ви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оцесо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Фазе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ксидативне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фосфорилације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јонизац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H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→ H</a:t>
            </a:r>
            <a:r>
              <a:rPr b="0" lang="sr-Latn-C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+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+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лектро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лектрон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лаз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i="1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ланац</a:t>
            </a:r>
            <a:r>
              <a:rPr b="0" i="1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i="1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преноса</a:t>
            </a:r>
            <a:r>
              <a:rPr b="0" i="1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i="1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лектро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низ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нзи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закључно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с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цитохромо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А</a:t>
            </a:r>
            <a:r>
              <a:rPr b="0" lang="sr-Latn-CS" sz="1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i="1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цитохром</a:t>
            </a:r>
            <a:r>
              <a:rPr b="0" i="1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i="1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оксида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редукуј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лементарн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О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спа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г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с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a H</a:t>
            </a:r>
            <a:r>
              <a:rPr b="0" lang="sr-Latn-C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+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вод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H</a:t>
            </a:r>
            <a:r>
              <a:rPr b="0" lang="sr-Latn-C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+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АТП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а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пумп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прото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спољашњ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комор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митохондр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стварајућ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њој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велик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концентрациј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sr-Latn-C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+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лазак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sr-Latn-C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+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кроз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молеку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АТПаз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нутрашњ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мембра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митохондр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)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дај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енергиј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потребн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претварањ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ADP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  <a:ea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  <a:ea typeface="Arial"/>
              </a:rPr>
              <a:t> AT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Slika 67-6"/>
          <p:cNvPicPr/>
          <p:nvPr/>
        </p:nvPicPr>
        <p:blipFill>
          <a:blip r:embed="rId1"/>
          <a:stretch/>
        </p:blipFill>
        <p:spPr>
          <a:xfrm>
            <a:off x="5029200" y="23623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8" name="Picture 3" descr="Glukoza"/>
          <p:cNvPicPr/>
          <p:nvPr/>
        </p:nvPicPr>
        <p:blipFill>
          <a:blip r:embed="rId1"/>
          <a:stretch/>
        </p:blipFill>
        <p:spPr>
          <a:xfrm>
            <a:off x="2057400" y="2316240"/>
            <a:ext cx="5486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деф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.)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емијск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реакциј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јим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твар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рош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јим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твар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јим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рош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континуирани</a:t>
            </a:r>
            <a:r>
              <a:rPr b="0" lang="sl-SI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квантитативни</a:t>
            </a:r>
            <a:r>
              <a:rPr b="0" lang="sl-SI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однос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вантитативн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творен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трошен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азив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енергетска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равнотежа</a:t>
            </a:r>
            <a:r>
              <a:rPr b="0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баланс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нтрол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ервних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уморалних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фактор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дговорн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кључујућ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одговарајућ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зим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ензим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ормоне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...).</a:t>
            </a:r>
            <a:r>
              <a:rPr b="0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бет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ксидациј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разградњ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оензим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бет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ложај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иш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тпушт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2 H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леку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еп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лф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бет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слобађајућ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1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A (-2 C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роцес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двајањ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астављ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а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нц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2 C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вак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олеку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слобод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4 H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2x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ксидациј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оензим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везуј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алсирћетн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иселин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лаз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ебсов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иклу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том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лаз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атив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осфорилациј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1" name="Picture 4" descr="Slika 68-1"/>
          <p:cNvPicPr/>
          <p:nvPr/>
        </p:nvPicPr>
        <p:blipFill>
          <a:blip r:embed="rId1"/>
          <a:stretch/>
        </p:blipFill>
        <p:spPr>
          <a:xfrm>
            <a:off x="4952880" y="24382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Form"/>
          <p:cNvPicPr/>
          <p:nvPr/>
        </p:nvPicPr>
        <p:blipFill>
          <a:blip r:embed="rId2"/>
          <a:stretch/>
        </p:blipFill>
        <p:spPr>
          <a:xfrm>
            <a:off x="5105520" y="5410080"/>
            <a:ext cx="34290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95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ОШЊ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воре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таболизмо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храње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енцијал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о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гат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формиса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лик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хемијску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руктурн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ункционалн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мпонен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механичку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акциј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лектричну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ав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ксцитабилних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лектрохемијск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порт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оз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мбран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топлотну</a:t>
            </a:r>
            <a:r>
              <a:rPr b="0" lang="sr-Latn-C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енергиј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њ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мператур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Picture 6" descr="72-1"/>
          <p:cNvPicPr/>
          <p:nvPr/>
        </p:nvPicPr>
        <p:blipFill>
          <a:blip r:embed="rId1"/>
          <a:stretch/>
        </p:blipFill>
        <p:spPr>
          <a:xfrm>
            <a:off x="5580000" y="2349360"/>
            <a:ext cx="356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ОШЊ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ОНОЛОШК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ФОСФАГЕНИ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СИСТЕ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еатин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осфа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ХИДРА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икоген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икогеноли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уко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гликоли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пирува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ебсов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иклус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атив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осфорилација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триглицериди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липолиз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мас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исели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бет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ац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цетил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оензим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ебсов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иклус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атив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осфорилац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аминокисели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деаминациј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етокиселине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Кребсов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циклус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неопходно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присуство</a:t>
            </a:r>
            <a:r>
              <a:rPr b="1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оксидативна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3366"/>
                </a:solidFill>
                <a:latin typeface="Arial"/>
              </a:rPr>
              <a:t>фосфорилац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наеробн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истем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обија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иш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топлаз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ст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4mol ATP/t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еробн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истем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обија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иш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тохондрија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ст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1mol ATP/t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ЕРЕЊ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ОМЕТ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љ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а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пло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жав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оплотни</a:t>
            </a:r>
            <a:r>
              <a:rPr b="0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еквивален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)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cal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и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плот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а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гре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ºC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локалор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-1kcal=1000 cal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ђународ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SI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иц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џул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рошено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мер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логра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наг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ут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N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в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и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 1 kcal = 4.184 kJ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алоријск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ш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ирект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пу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горев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м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метр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ндиректно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ту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де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зна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ј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оја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7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ш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ирект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ецијал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ор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ндиректно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"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квивален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"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рошк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ит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ага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5.01 kcal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ага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ро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5.06 kcal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ага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.70 k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ага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.60 kca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шови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сеч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лобађ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.825 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итр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роше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4" name="Picture 5" descr="72-3"/>
          <p:cNvPicPr/>
          <p:nvPr/>
        </p:nvPicPr>
        <p:blipFill>
          <a:blip r:embed="rId1"/>
          <a:stretch/>
        </p:blipFill>
        <p:spPr>
          <a:xfrm>
            <a:off x="6093000" y="3265560"/>
            <a:ext cx="3051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ОЦЕНА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дицинс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дур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уж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атк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ћ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вари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нутн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ланс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аник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ац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ен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о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ј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сањ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раметар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нирањ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циз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аћењ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ат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јететских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тман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вар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ата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ич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ич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амне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ључују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ат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циоеконом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к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а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тропометријс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и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охемијс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раме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ал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утрити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утрити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испитива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јект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и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стрибуц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ере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зведен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тропометријск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ере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нтропометриј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дур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е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с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бљ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ж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К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у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уко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39280" y="2276640"/>
            <a:ext cx="8604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висин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ђ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моћ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оме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тропомета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хт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што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ђ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дурал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ави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питани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логла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ђ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рену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ометр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ч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ложај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в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иметр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cm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врђ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моћ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дицин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г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питани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ш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утарњ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часов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кр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ол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ђ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р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узм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над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р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ше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ш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лограм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kg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Дебљин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кожног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набор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КН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казатељ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кладишт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им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5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кож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лиз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ш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ступ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е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бљ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ж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б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ш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моћ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пе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чети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р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д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р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леђ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опат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ков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њ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силар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ин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јач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К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на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ш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зе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Н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иметр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cm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струк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С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њ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силар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ин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е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бар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у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јач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иметр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cm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Обим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куков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шир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л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ко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иметр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cm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Изведене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антропометријске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латив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Т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dy mass index (BMI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дек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%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у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ш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длакти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Релатив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лати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туа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жељ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деал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у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 x 1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деал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ов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у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– 100) –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– 150 / 4) +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– 20 / 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им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цизно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сан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ане</a:t>
            </a:r>
            <a:r>
              <a:rPr b="0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бјектив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ш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л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ав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бјект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јект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ко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пети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еђ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сн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д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формац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цепто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ри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ит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про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ћ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д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31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Body mass index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чун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с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едећ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у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MI = TM /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1" lang="en-US" sz="16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kg/m</a:t>
            </a:r>
            <a:r>
              <a:rPr b="1" lang="en-US" sz="16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к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дравств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BMI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ласифика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еп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едећ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итеријум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I &lt; 20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I = 20-24.9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храњ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I = 25-29.9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I &gt; 30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кстрем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I &gt; 40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бид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MI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врд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шће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говарајућ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бл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деал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д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ед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ул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MI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рачун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еде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ИТ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= 22.5 x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В</a:t>
            </a:r>
            <a:r>
              <a:rPr b="1" lang="en-US" sz="16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5" name="Picture 6" descr="NORMOGRAM"/>
          <p:cNvPicPr/>
          <p:nvPr/>
        </p:nvPicPr>
        <p:blipFill>
          <a:blip r:embed="rId1"/>
          <a:stretch/>
        </p:blipFill>
        <p:spPr>
          <a:xfrm>
            <a:off x="6084720" y="2786040"/>
            <a:ext cx="3059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ODREĐIVANJE UKUPNIH ENERGETSKIH POTREB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и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Basal 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olic Rate - BMR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ров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Resting Metabolic Rate – RM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Thermic Effect of Food – TEF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(BM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MR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во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ш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ани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ш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м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2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а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ив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ш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р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спав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ћ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ани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ж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м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сих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оку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буђ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итан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стран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руже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мперату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аздух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јат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20-27º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ш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од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директ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ориметр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потреб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ат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ш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бл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ш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с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ж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ш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и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ни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ш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(kcal/m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sat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ж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а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17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ич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оло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ивот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б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ту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хормони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штитасте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брзавај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мушки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полни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хормо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-15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вирај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нте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хормон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5-2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брзавај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имула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мпатику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утном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аг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дук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а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BMR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-15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ну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ли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ензите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др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пу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фекциј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озн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мператур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1ºC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MR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8%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ку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иг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ум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нем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ч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суфицијен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ољ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сај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ут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иш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тис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аркинсоно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.)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6" descr="72-4"/>
          <p:cNvPicPr/>
          <p:nvPr/>
        </p:nvPicPr>
        <p:blipFill>
          <a:blip r:embed="rId1"/>
          <a:stretch/>
        </p:blipFill>
        <p:spPr>
          <a:xfrm>
            <a:off x="6093000" y="189000"/>
            <a:ext cx="2681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TEF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ач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з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рмич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TEF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рош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р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пор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утритиен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ичит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ељц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личи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рм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4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3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шовит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оријс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е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мањ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0-15%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рмич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ет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000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тал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узе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ксимал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800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о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ОРТИ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и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а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љи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ституен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ира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екцио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поставља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т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сеч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0-30%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50%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1116000" y="-458640"/>
          <a:ext cx="7108920" cy="71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-458640"/>
                    <a:ext cx="710892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птимал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баланс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етск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авнотеж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ис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ани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инуитет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1476360" y="260280"/>
          <a:ext cx="6431040" cy="6553440"/>
        </p:xfrm>
        <a:graphic>
          <a:graphicData uri="http://schemas.openxmlformats.org/drawingml/2006/table">
            <a:tbl>
              <a:tblPr/>
              <a:tblGrid>
                <a:gridCol w="1206360"/>
                <a:gridCol w="1282680"/>
                <a:gridCol w="1284480"/>
                <a:gridCol w="1303200"/>
                <a:gridCol w="135432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oručeni odnos visine i telesne mase za različitu životnu do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19 do 34 godin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o 35 godi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na u c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čna teži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k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 težin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k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čna teži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k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 težin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k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- 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- 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- 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- 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- 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- 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- 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- 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- 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- 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 - 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- 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- 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- 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 - 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 - 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- 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- 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- 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- 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- 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- 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- 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 - 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- 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- 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- 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- 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- 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- 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- 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- 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- 1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- 1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I ( kg / m</a:t>
                      </a:r>
                      <a:r>
                        <a:rPr b="1" lang="sr-Latn-C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- 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- 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≥20%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деал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уг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н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ш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Развој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епе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ктер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татич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дат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ан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јаз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ати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вир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ел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урођене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узроке</a:t>
            </a:r>
            <a:r>
              <a:rPr b="1" i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стечене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узроке</a:t>
            </a:r>
            <a:r>
              <a:rPr b="1" i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рођен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ен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л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лед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унк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т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рођ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зим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стечени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к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иво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х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ел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еђ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хват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р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гула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рукту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з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ш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психоген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тражив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стал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казу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оциоло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форм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купљ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ељ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редишње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з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поређу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ђусо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лад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ит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форм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премљ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а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утем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нер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ри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гл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тегнут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ар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о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з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много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сихич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моти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ту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збиљ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чове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Екстремн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≥3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деа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изи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и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др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ћ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ам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ертенз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иш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ртериј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тис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ећ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и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ерхолестеролем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она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ход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ча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до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иг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Превенциј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вен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разум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лан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жељ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мог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птимал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зити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иц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дрављ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екти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ханиза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и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тклањањ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е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њеног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ом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ровод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различит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ијететск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ротоко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чешћи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у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еп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и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50-55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2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еланчев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5-3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говарају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фармаколошк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лечењ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ст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ч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гулатор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стали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рој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пшт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јст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а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мењу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сту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ир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р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гести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ир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прострање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ц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хируршк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ретман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ел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но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тегор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стетс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рург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тклања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лаг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рактеристич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рург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лу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лу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није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из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т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Рестрикциј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желуц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хируршки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третман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modifikovano iz Grace D.M..: Gastric restrictions procedures for treating severe obesity, 1992.)</a:t>
            </a: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2" name="Picture 6" descr="1-Gastroplasty"/>
          <p:cNvPicPr/>
          <p:nvPr/>
        </p:nvPicPr>
        <p:blipFill>
          <a:blip r:embed="rId1"/>
          <a:stretch/>
        </p:blipFill>
        <p:spPr>
          <a:xfrm>
            <a:off x="1692360" y="3357720"/>
            <a:ext cx="6769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тхрањенос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храње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≥10%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деал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уг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н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риод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вије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емљ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др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збиљ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дицин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бл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еш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храње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≥20%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деал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д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др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ел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ок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ок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i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i="1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штећ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гула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ум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штећ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до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сихич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акт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а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ва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љ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има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аноре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и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нерв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сира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лиминиса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булимиа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нерво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оци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коном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л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малапсорпција</a:t>
            </a:r>
            <a:r>
              <a:rPr b="0" i="1" lang="sr-Latn-CS" sz="16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рев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довољавају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иг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у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уг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уготрај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ебрил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с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итаст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ч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п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е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абљ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могу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а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олош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вир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докна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ош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м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50%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ндард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но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а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р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мар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мер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потреб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корач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ергетс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племент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ж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фицијен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рочит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рапијс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ијететск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етм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учајев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ес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чек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вака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ж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мењ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лиг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у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В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зитив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вентив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иљ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речав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порав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ит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шк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храње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пу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ече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јаз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хт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рог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дивидуал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инуир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с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сту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тицај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гладовањ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1" lang="sl-SI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модификовано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Guyton A.C. &amp; Hall J.E.: Textbook of Medical Physiology, 1996.)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1" name="Picture 6" descr="71-1"/>
          <p:cNvPicPr/>
          <p:nvPr/>
        </p:nvPicPr>
        <p:blipFill>
          <a:blip r:embed="rId1"/>
          <a:stretch/>
        </p:blipFill>
        <p:spPr>
          <a:xfrm>
            <a:off x="2916360" y="3233880"/>
            <a:ext cx="46800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ЛАНИРАЊ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АСТАВЉАЊ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БРО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нир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кла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чекива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н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екц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*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ланир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планир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ал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б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лучај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репоручуј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азлик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змеђ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енергетског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ошњ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буд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велике</a:t>
            </a:r>
            <a:r>
              <a:rPr b="0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-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орекциј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тањ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храњеност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оствариват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степен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без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грожавањ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дрављ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љањ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ат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нут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храње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ле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ецифич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порти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креатив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ћ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подноше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толеран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руже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л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мбе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бијент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кроклима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штве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цијал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бијент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в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ча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л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ћ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нир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с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чекива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бира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BMR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RM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чекив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вљ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ланира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рмич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љ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ед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ак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б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ерб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едећ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0-5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-3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CNS_parts_85_rg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илико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бор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вољ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довољ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м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вантитатив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негетск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итерију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ећ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опход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валитет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др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ранљив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терије</a:t>
            </a: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ма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ид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езбе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воља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бор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"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мплет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могућ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балансира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минантн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чешће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засиће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а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огућств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-3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стовреме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мањи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елик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држаје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олестерол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300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г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бор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др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гље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идрат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иск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ликемичк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ндексо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ољ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вномерн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егулац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 –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лисахари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др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ијететск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лакана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езбед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пход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ормал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функциониса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и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говарајућ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личинама</a:t>
            </a: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7720" y="227664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ставља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лакша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финисање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седам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основних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група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намирница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леб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итар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6-11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зу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из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-3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зу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3-5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зу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-4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зу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леч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из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2-4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зу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аткиш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мер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!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уп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сти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мере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!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2" name="Picture 6" descr="piramida"/>
          <p:cNvPicPr/>
          <p:nvPr/>
        </p:nvPicPr>
        <p:blipFill>
          <a:blip r:embed="rId1"/>
          <a:stretch/>
        </p:blipFill>
        <p:spPr>
          <a:xfrm>
            <a:off x="4643280" y="2805120"/>
            <a:ext cx="4500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ПРИМЕР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САСТАВЉАЊА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ДНЕВНОГ</a:t>
            </a:r>
            <a:r>
              <a:rPr b="1" lang="sr-Latn-C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ОБРО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1 –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Одређивање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енергетских</a:t>
            </a:r>
            <a:r>
              <a:rPr b="1" i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3366"/>
                </a:solidFill>
                <a:latin typeface="Arial"/>
              </a:rPr>
              <a:t>потреб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едећо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у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П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= RMR + EFA (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физичк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 + TEF (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ермичк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RMR =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x TM x 2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фицијен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0.9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80k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RMR = 1 x 80 x 24 = 1920 kcal/d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остав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ул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RMR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цизн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о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и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зи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л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а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838080" y="2362320"/>
          <a:ext cx="8126640" cy="4306680"/>
        </p:xfrm>
        <a:graphic>
          <a:graphicData uri="http://schemas.openxmlformats.org/drawingml/2006/table">
            <a:tbl>
              <a:tblPr/>
              <a:tblGrid>
                <a:gridCol w="978120"/>
                <a:gridCol w="1949400"/>
                <a:gridCol w="5199120"/>
              </a:tblGrid>
              <a:tr h="46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ednačine za izračunavanje RM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o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arost (godin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ednačina za izračunavanje RMR (u kcal/dan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ušk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-1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-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60.9 x TM) – 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22.7 x TM) + 49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7.5 x TM) +6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5.3 x TM) + 67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1.6 x TM) +87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3.5 x TM) + 48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Žensk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-1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-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61.0 x TM) – 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22.5 x TM) + 4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2.2 x TM) + 74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4.7 x TM) + 49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8.7 x TM) + 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5 x TM) + 59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EFA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нергиј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физичку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ноже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ош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жи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чекиван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н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ј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5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5x120kcal) + 1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мерен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1x300kcal)= 600+300 = 900k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TEF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рмичк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већа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ножити</a:t>
            </a:r>
            <a:r>
              <a:rPr b="0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а</a:t>
            </a:r>
            <a:r>
              <a:rPr b="0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1.1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ав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с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000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200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фека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000kca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ни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ул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ЕП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= RMR + EFA + TEF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(1920 + 900) x 1.1 = 3102kcal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 3100k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ш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цизн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EFA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рад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шће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фицијена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2362320"/>
          <a:ext cx="8126640" cy="4306680"/>
        </p:xfrm>
        <a:graphic>
          <a:graphicData uri="http://schemas.openxmlformats.org/drawingml/2006/table">
            <a:tbl>
              <a:tblPr/>
              <a:tblGrid>
                <a:gridCol w="5770800"/>
                <a:gridCol w="2355840"/>
              </a:tblGrid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oeficijenti fizičke aktivnos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epen fizičke aktivnos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oeficijent fizičke aktiv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dmaranje </a:t>
                      </a:r>
                      <a:r>
                        <a:rPr b="1" i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spavanj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rlo lak rad (</a:t>
                      </a:r>
                      <a:r>
                        <a:rPr b="1" i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blačenje, tuširanje igranje   karata..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k rad </a:t>
                      </a:r>
                      <a:r>
                        <a:rPr b="1" i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ameštanje kreveta, brisanje poda, pranje automobila, kuglanje..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eren rad </a:t>
                      </a:r>
                      <a:r>
                        <a:rPr b="1" i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baštenski poslovi, rekreacija..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žak rad </a:t>
                      </a:r>
                      <a:r>
                        <a:rPr b="1" i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plivanje, skijanje, košarka, fudbal..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838080" y="2362320"/>
          <a:ext cx="8055000" cy="4241520"/>
        </p:xfrm>
        <a:graphic>
          <a:graphicData uri="http://schemas.openxmlformats.org/drawingml/2006/table">
            <a:tbl>
              <a:tblPr/>
              <a:tblGrid>
                <a:gridCol w="1503360"/>
                <a:gridCol w="2016360"/>
                <a:gridCol w="1801800"/>
                <a:gridCol w="2733480"/>
              </a:tblGrid>
              <a:tr h="563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imer dnevne aktivnosti sa određivanjem „težinskog koeficijenta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rsta aktv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oeficijent aktiv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reme trajanja (h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žinski koeficijent aktiv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dmaranj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rlo lak r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k r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eren r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žak r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Тежински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оефицијент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ноже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фицијен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мен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ј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4h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3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с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ајњ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EF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пход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в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еди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редњу</a:t>
            </a:r>
            <a:r>
              <a:rPr b="0" i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вредност</a:t>
            </a:r>
            <a:r>
              <a:rPr b="0" i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тежинског</a:t>
            </a:r>
            <a:r>
              <a:rPr b="0" i="1" lang="sr-Latn-C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оефицијен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е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4 (h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37 : 24 = 1.5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редњ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редност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ежинског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ефицијен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- 1.54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EF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ст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ножење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ред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жинск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фицијен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RM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тпостави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е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тход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в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RMR 1300 Kcal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н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EF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1300 x 1.54 = 2002 K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2 –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дређивање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требних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д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5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3100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705kc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kcal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426g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д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3100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775kc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9kcal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86g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д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2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3100kcal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620kc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1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4kcal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155g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аз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3 –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дређивање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астава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невног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рачуна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поређу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ље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ирами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чу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их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м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вер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аб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авај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прав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вентуал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екц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иховог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верит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валитет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абра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исл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сенцијал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сић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засић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љен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а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јететс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лака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лестеро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Хипоталамусн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центри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контролу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латерал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једр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ипталамус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ношењ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тимулац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иперфагија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↔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деструкц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наниц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вентромедијал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једр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итост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лез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аравентрикуларни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једар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ождрљивос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лез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дорзомедијални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једара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мање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виш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центр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амигдалоид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једр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рефронталн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ртекс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контрол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апетит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лези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“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сихичк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лепил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Центр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секрециј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надбубрег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тиреоидеј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ендогено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панкреаса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4" descr="lastscan"/>
          <p:cNvPicPr/>
          <p:nvPr/>
        </p:nvPicPr>
        <p:blipFill>
          <a:blip r:embed="rId1"/>
          <a:stretch/>
        </p:blipFill>
        <p:spPr>
          <a:xfrm>
            <a:off x="2340000" y="2381400"/>
            <a:ext cx="51832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уготрај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утритив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хан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ир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њени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т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етљи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ђућелиј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ентр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раткотрај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лиментар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посредн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о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и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ст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ониш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арају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чи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58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уготрај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утритив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регулациј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зимањ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икостатс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ориј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ипостатс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ориј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иностатс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ориј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ептинс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ханизам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40000" y="2276640"/>
            <a:ext cx="5003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Group 64"/>
          <p:cNvGrpSpPr/>
          <p:nvPr/>
        </p:nvGrpSpPr>
        <p:grpSpPr>
          <a:xfrm>
            <a:off x="3772080" y="2421000"/>
            <a:ext cx="5371920" cy="3965400"/>
            <a:chOff x="3772080" y="2421000"/>
            <a:chExt cx="5371920" cy="3965400"/>
          </a:xfrm>
        </p:grpSpPr>
        <p:sp>
          <p:nvSpPr>
            <p:cNvPr id="155" name="AutoShape 65"/>
            <p:cNvSpPr/>
            <p:nvPr/>
          </p:nvSpPr>
          <p:spPr>
            <a:xfrm>
              <a:off x="3772080" y="2421000"/>
              <a:ext cx="5371920" cy="39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>
              <a:off x="7543800" y="3837240"/>
              <a:ext cx="114300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67"/>
            <p:cNvSpPr/>
            <p:nvPr/>
          </p:nvSpPr>
          <p:spPr>
            <a:xfrm>
              <a:off x="7772400" y="4970160"/>
              <a:ext cx="799920" cy="99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>
              <a:off x="5943600" y="5111640"/>
              <a:ext cx="1028520" cy="7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>
              <a:off x="4229280" y="5111640"/>
              <a:ext cx="114300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Text Box 70"/>
            <p:cNvSpPr/>
            <p:nvPr/>
          </p:nvSpPr>
          <p:spPr>
            <a:xfrm>
              <a:off x="7543800" y="2987280"/>
              <a:ext cx="914400" cy="56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Kora velikog mozga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71"/>
            <p:cNvSpPr/>
            <p:nvPr/>
          </p:nvSpPr>
          <p:spPr>
            <a:xfrm>
              <a:off x="7658280" y="3978720"/>
              <a:ext cx="91440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Hipotalamus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2"/>
            <p:cNvSpPr/>
            <p:nvPr/>
          </p:nvSpPr>
          <p:spPr>
            <a:xfrm>
              <a:off x="7886880" y="5253480"/>
              <a:ext cx="57132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Unos hran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73"/>
            <p:cNvSpPr/>
            <p:nvPr/>
          </p:nvSpPr>
          <p:spPr>
            <a:xfrm>
              <a:off x="6058080" y="5253480"/>
              <a:ext cx="799920" cy="56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Digestivni trak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74"/>
            <p:cNvSpPr/>
            <p:nvPr/>
          </p:nvSpPr>
          <p:spPr>
            <a:xfrm>
              <a:off x="4229280" y="525348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3366"/>
                  </a:solidFill>
                  <a:latin typeface="Arial"/>
                </a:rPr>
                <a:t>Masno tkivo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4800600" y="3978360"/>
              <a:ext cx="0" cy="11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4800600" y="39787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H="1">
              <a:off x="5371920" y="53949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Line 78"/>
            <p:cNvSpPr/>
            <p:nvPr/>
          </p:nvSpPr>
          <p:spPr>
            <a:xfrm flipH="1">
              <a:off x="6972480" y="53949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>
              <a:off x="8001000" y="3553920"/>
              <a:ext cx="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Line 80"/>
            <p:cNvSpPr/>
            <p:nvPr/>
          </p:nvSpPr>
          <p:spPr>
            <a:xfrm>
              <a:off x="8115480" y="426204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V="1">
              <a:off x="5600880" y="4120200"/>
              <a:ext cx="0" cy="12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 flipV="1">
              <a:off x="6400800" y="4262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5600880" y="41202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400800" y="426204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85"/>
            <p:cNvSpPr/>
            <p:nvPr/>
          </p:nvSpPr>
          <p:spPr>
            <a:xfrm>
              <a:off x="6972480" y="5961600"/>
              <a:ext cx="91440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neta 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6"/>
            <p:cNvSpPr/>
            <p:nvPr/>
          </p:nvSpPr>
          <p:spPr>
            <a:xfrm>
              <a:off x="5372280" y="596160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Apsorbov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nergij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87"/>
            <p:cNvSpPr/>
            <p:nvPr/>
          </p:nvSpPr>
          <p:spPr>
            <a:xfrm>
              <a:off x="4800600" y="4545360"/>
              <a:ext cx="5713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Lept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88"/>
            <p:cNvSpPr/>
            <p:nvPr/>
          </p:nvSpPr>
          <p:spPr>
            <a:xfrm>
              <a:off x="5600880" y="4545360"/>
              <a:ext cx="68580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ran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insul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Text Box 89"/>
            <p:cNvSpPr/>
            <p:nvPr/>
          </p:nvSpPr>
          <p:spPr>
            <a:xfrm>
              <a:off x="6515280" y="4545360"/>
              <a:ext cx="102852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Hormon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Nervni signali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90"/>
            <p:cNvSpPr/>
            <p:nvPr/>
          </p:nvSpPr>
          <p:spPr>
            <a:xfrm>
              <a:off x="6629400" y="2845800"/>
              <a:ext cx="79992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Uku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Miris, Vi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Emocij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91"/>
            <p:cNvSpPr/>
            <p:nvPr/>
          </p:nvSpPr>
          <p:spPr>
            <a:xfrm>
              <a:off x="4915080" y="4120200"/>
              <a:ext cx="3427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-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92"/>
            <p:cNvSpPr/>
            <p:nvPr/>
          </p:nvSpPr>
          <p:spPr>
            <a:xfrm>
              <a:off x="5486400" y="5536440"/>
              <a:ext cx="3427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3366"/>
                  </a:solidFill>
                  <a:latin typeface="Arial"/>
                </a:rPr>
                <a:t>(+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28:37Z</dcterms:created>
  <dc:creator>User</dc:creator>
  <dc:description/>
  <dc:language>en-US</dc:language>
  <cp:lastModifiedBy>XP</cp:lastModifiedBy>
  <dcterms:modified xsi:type="dcterms:W3CDTF">2014-02-07T15:53:21Z</dcterms:modified>
  <cp:revision>35</cp:revision>
  <dc:subject/>
  <dc:title>CLINICAL NUTRITION</dc:title>
</cp:coreProperties>
</file>